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23E54-D3E3-45F3-8C03-A4FF313D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C8549-3B37-44AE-A658-C3DC2648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ED3C3-3D74-431E-97A1-C8678CD7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54E4D-6C62-443F-95FF-5BBA7EAE6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CC16-1828-458C-8AE9-839CCBD8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4448-F0A0-4BCF-886C-D06DFB14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E526-20B6-4CEE-BB8B-C41CA249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F3E1-DCBB-4837-BADB-BDCC7134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4D71-9401-4027-962B-DA04BAC8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0760-B602-4E93-BD31-490D7A2F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4D66-0585-4340-B1A8-A71A64A9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C741D-5B59-4C78-9455-12667348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5222-969A-486E-8031-86300D21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D580-39AE-48B9-86DF-C6A9620B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148A-33E0-4C98-A9CF-1596A64F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6ECB-36FF-4726-BDF0-5CEC3F0A5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6986-CDCD-4BE4-B500-5245B694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8485F-7B2A-401E-8F8C-EC527AD5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13697-80A3-421C-81FE-D4E4B568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D2CF9-098E-4F31-A1AA-9B8C0663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DB885-B6FB-4CF2-AD68-17096E62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24F79-45E9-4FF9-9EE4-C48E0EE3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FC521-9948-4EE7-8833-DAD4EE63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25203-CCDB-400D-AEDF-C72E1B12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2F2A-B224-460E-A666-E6DEC1C3E23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D0D6-8D96-486D-917C-411B0A925AF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840240"/>
            <a:ext cx="9577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00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587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Спасе, като овчар води н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зелени пасища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ечер нежно прибери н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Своите обиталищ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О, Исусе, о, Исус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ие сме Твои агънца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958320"/>
            <a:ext cx="957744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 Ти Си Вожд на вси народи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пътят Тебе е познат;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Твоят жезъл ще ни води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със любов Си Ти богат!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[: О, Исусе, о, Исусе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посочи ни правий път! :]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1078920"/>
            <a:ext cx="957744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 В младост нека търсим Тебе! Твойта воля от сърц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ук да вършим, о, Исус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Те хвалим на неб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О, Исусе, о, Исус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ушай нашите молби! :]</a:t>
            </a:r>
            <a:r>
              <a:rPr b="0" lang="bg-BG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09-19T06:43:49Z</dcterms:modified>
  <cp:revision>134</cp:revision>
  <dc:subject/>
  <dc:title>Slide 1</dc:title>
</cp:coreProperties>
</file>